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STHEME2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6C6-8F5D-4B16-9FD9-0C96C7CF4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B47-2C34-4F43-A2C8-023FEAE71B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BF3-52E9-4624-99F1-F41060B65F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1349-92E7-4502-9453-29D42678D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73D-224A-4876-A01F-FF7516AFB3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13A-50B7-488B-ADFF-3FC300EDBF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ACE-865A-44BC-93E0-5819941C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03D-6CCD-41D2-91B8-CB3EE1B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515-F9AF-4D4B-981C-11AE0887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2B0-BA39-4416-A811-0A169D2D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704-4FE1-4370-822F-10842C8F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74C-9358-4427-8F18-87620FB7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3C7-F088-4921-B737-833C075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018-9F2B-4CAA-B448-984D0123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BAF-5809-4AA9-862A-9AEF8B3E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E63-FBE3-49CE-8B4D-37E187C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18E-2AB5-45CE-AF15-DC41301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AEC-E979-410F-B754-380967C3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87F8-EDD1-46B1-8FFE-E7CDF6BC869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S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i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S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/>
  <dc:description/>
  <dc:language>en-US</dc:language>
  <cp:lastModifiedBy>rparmigiani</cp:lastModifiedBy>
  <dcterms:modified xsi:type="dcterms:W3CDTF">2011-07-26T14:52:32Z</dcterms:modified>
  <cp:revision>19</cp:revision>
  <dc:subject/>
  <dc:title>PowerPoint Presentation</dc:title>
</cp:coreProperties>
</file>